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media/image3.png" ContentType="image/png"/>
  <Override PartName="/ppt/media/image4.png" ContentType="image/png"/>
  <Override PartName="/ppt/media/image5.jpeg" ContentType="image/jpeg"/>
  <Override PartName="/ppt/media/image6.gif" ContentType="image/gif"/>
  <Override PartName="/ppt/media/image7.png" ContentType="image/png"/>
  <Override PartName="/ppt/media/image8.png" ContentType="image/png"/>
  <Override PartName="/ppt/media/image9.png" ContentType="image/pn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00"/>
                </a:solidFill>
                <a:latin typeface="Comic Sans MS"/>
              </a:rPr>
              <a:t>Click to move the slide</a:t>
            </a:r>
            <a:endParaRPr b="1" lang="en-US" sz="48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1E1FA-4655-4B9E-8C27-C8704BCFDF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602F1-006F-4119-BD2E-EEC235D466B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37914-9187-4A32-8573-32DE1482642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5AFA2-60B6-433D-8040-8380A55D0F4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2ED9D-74C3-4D03-A664-8DA07E4ED8E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FE868-22B0-44BB-9F15-DA7BBA19C04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C29DE-D0CE-4253-A6AF-E11F3D1D8BA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57C30-F85B-499F-86ED-94066781FEC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D654B-01E3-4248-B88B-F2146076FFB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5EF60-46A0-48F9-BE8E-F7DD00CC205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3B2E0-E020-4CAA-B07F-1BF0085191C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5FBC0-96EC-42EC-BB39-C487D65506B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733AC-C653-43A0-AA1C-5C8F684FB2E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BA508-1BFE-44EC-A0EE-7AAD3F3C7DB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E33B8-8953-4AFB-B1CC-63AA9FA08A8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F5D8B-3A1C-45CB-8542-03CDAD1F1E7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E1C32-5196-4848-A824-CF4533010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03200"/>
            <a:ext cx="7772400" cy="15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5344A-F17C-4DC6-BD40-805E29883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03200"/>
            <a:ext cx="7772400" cy="15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01D75-5A1E-4E39-838E-8190AE89E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03200"/>
            <a:ext cx="7772400" cy="15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D8DD6-A765-4232-8A81-27C5A6892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3AF87-4C4F-4688-92EF-C982201A8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03200"/>
            <a:ext cx="7772400" cy="15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6078C-22A4-441A-9D03-4653A8D42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03200"/>
            <a:ext cx="7772400" cy="15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15BFC-4E59-4111-B2FB-555592532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03200"/>
            <a:ext cx="7772400" cy="15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E58B8-5B71-47EC-83C1-5C52C7538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03200"/>
            <a:ext cx="7772400" cy="15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689A1-2706-442D-98A4-97941EAAA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03200"/>
            <a:ext cx="7772400" cy="721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74307-6584-478B-960C-780D3CBC5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03200"/>
            <a:ext cx="7772400" cy="15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C4B8C-0319-47EB-BC88-C5DAE669E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03200"/>
            <a:ext cx="7772400" cy="15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C61BF-423C-4AF2-AEED-77D6F67F2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03200"/>
            <a:ext cx="7772400" cy="15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92B99-A1A6-444C-B7CA-DF8C21129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03200"/>
            <a:ext cx="7772400" cy="15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F1AA7-7483-4370-BE06-BD45CF9E4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03200"/>
            <a:ext cx="7772400" cy="15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F9025-989F-4642-8E53-66C7911BE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03200"/>
            <a:ext cx="7772400" cy="15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B5411-A9AE-4E32-9990-8B0FEA848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03200"/>
            <a:ext cx="7772400" cy="15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A7C23-E276-473B-9E7E-AA91C0772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03200"/>
            <a:ext cx="7772400" cy="15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CD439-1A59-4E6D-8467-6F6762B7D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03200"/>
            <a:ext cx="7772400" cy="15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0CCFE-2F5C-45EB-8C7B-89B255D47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03200"/>
            <a:ext cx="7772400" cy="15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1D819-C801-43CD-AA11-4E37730FC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03200"/>
            <a:ext cx="7772400" cy="721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F8C73-1A4A-4C56-B5F1-4ABEFC154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03200"/>
            <a:ext cx="7772400" cy="15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61B6A-3B97-4076-94F5-B6B1D7ADF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03200"/>
            <a:ext cx="7772400" cy="15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29C95-F568-424C-B5CA-054701840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03200"/>
            <a:ext cx="7772400" cy="15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8E12B-BBCC-47D0-936A-9A9EA6A94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9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Freeform 8"/>
            <p:cNvSpPr/>
            <p:nvPr/>
          </p:nvSpPr>
          <p:spPr>
            <a:xfrm>
              <a:off x="2590920" y="6120"/>
              <a:ext cx="2757240" cy="687816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9"/>
            <p:cNvSpPr/>
            <p:nvPr/>
          </p:nvSpPr>
          <p:spPr>
            <a:xfrm>
              <a:off x="0" y="2880"/>
              <a:ext cx="2757600" cy="687204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10"/>
            <p:cNvSpPr/>
            <p:nvPr/>
          </p:nvSpPr>
          <p:spPr>
            <a:xfrm>
              <a:off x="5943600" y="7560"/>
              <a:ext cx="2760840" cy="687348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11"/>
            <p:cNvSpPr/>
            <p:nvPr/>
          </p:nvSpPr>
          <p:spPr>
            <a:xfrm>
              <a:off x="3048120" y="0"/>
              <a:ext cx="3301920" cy="6864120"/>
            </a:xfrm>
            <a:prstGeom prst="pie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17"/>
            <p:cNvSpPr/>
            <p:nvPr/>
          </p:nvSpPr>
          <p:spPr>
            <a:xfrm>
              <a:off x="185760" y="168120"/>
              <a:ext cx="5562720" cy="243792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18"/>
            <p:cNvSpPr/>
            <p:nvPr/>
          </p:nvSpPr>
          <p:spPr>
            <a:xfrm flipH="1" rot="2703000">
              <a:off x="1285200" y="1230120"/>
              <a:ext cx="4038480" cy="16002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19"/>
            <p:cNvSpPr/>
            <p:nvPr/>
          </p:nvSpPr>
          <p:spPr>
            <a:xfrm>
              <a:off x="131760" y="91800"/>
              <a:ext cx="5562720" cy="243792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20"/>
            <p:cNvSpPr/>
            <p:nvPr/>
          </p:nvSpPr>
          <p:spPr>
            <a:xfrm rot="18703800">
              <a:off x="-1561680" y="1666080"/>
              <a:ext cx="5562360" cy="243828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21"/>
            <p:cNvSpPr/>
            <p:nvPr/>
          </p:nvSpPr>
          <p:spPr>
            <a:xfrm rot="19294800">
              <a:off x="2112840" y="1463040"/>
              <a:ext cx="5705640" cy="27540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Freeform 22"/>
            <p:cNvSpPr/>
            <p:nvPr/>
          </p:nvSpPr>
          <p:spPr>
            <a:xfrm flipH="1" rot="2085000">
              <a:off x="2951280" y="1386720"/>
              <a:ext cx="5562360" cy="243828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Freeform 23"/>
            <p:cNvSpPr/>
            <p:nvPr/>
          </p:nvSpPr>
          <p:spPr>
            <a:xfrm>
              <a:off x="6746760" y="2880"/>
              <a:ext cx="1729080" cy="36270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Rectangle 25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27"/>
            <p:cNvSpPr/>
            <p:nvPr/>
          </p:nvSpPr>
          <p:spPr>
            <a:xfrm>
              <a:off x="2590920" y="6294240"/>
              <a:ext cx="2757240" cy="60588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28"/>
            <p:cNvSpPr/>
            <p:nvPr/>
          </p:nvSpPr>
          <p:spPr>
            <a:xfrm>
              <a:off x="0" y="6294240"/>
              <a:ext cx="2757600" cy="60444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29"/>
            <p:cNvSpPr/>
            <p:nvPr/>
          </p:nvSpPr>
          <p:spPr>
            <a:xfrm>
              <a:off x="5943600" y="6294240"/>
              <a:ext cx="2760840" cy="60588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30"/>
            <p:cNvSpPr/>
            <p:nvPr/>
          </p:nvSpPr>
          <p:spPr>
            <a:xfrm>
              <a:off x="3048120" y="6294240"/>
              <a:ext cx="3301920" cy="604440"/>
            </a:xfrm>
            <a:prstGeom prst="pie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Rectangle 34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35"/>
            <p:cNvSpPr/>
            <p:nvPr/>
          </p:nvSpPr>
          <p:spPr>
            <a:xfrm>
              <a:off x="4100400" y="6233760"/>
              <a:ext cx="1644840" cy="66636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Freeform 36"/>
            <p:cNvSpPr/>
            <p:nvPr/>
          </p:nvSpPr>
          <p:spPr>
            <a:xfrm flipH="1" rot="18897000">
              <a:off x="2358720" y="6182640"/>
              <a:ext cx="1682640" cy="76212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Freeform 37"/>
            <p:cNvSpPr/>
            <p:nvPr/>
          </p:nvSpPr>
          <p:spPr>
            <a:xfrm flipH="1" rot="18897000">
              <a:off x="1215720" y="6182640"/>
              <a:ext cx="1682640" cy="76212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Freeform 38"/>
            <p:cNvSpPr/>
            <p:nvPr/>
          </p:nvSpPr>
          <p:spPr>
            <a:xfrm flipH="1" rot="18897000">
              <a:off x="48240" y="6132960"/>
              <a:ext cx="1641240" cy="77292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Freeform 39"/>
            <p:cNvSpPr/>
            <p:nvPr/>
          </p:nvSpPr>
          <p:spPr>
            <a:xfrm flipH="1" flipV="1">
              <a:off x="913680" y="6221160"/>
              <a:ext cx="5638680" cy="68544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Freeform 40"/>
            <p:cNvSpPr/>
            <p:nvPr/>
          </p:nvSpPr>
          <p:spPr>
            <a:xfrm flipH="1" flipV="1">
              <a:off x="380520" y="6221160"/>
              <a:ext cx="2438640" cy="68544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Freeform 41"/>
            <p:cNvSpPr/>
            <p:nvPr/>
          </p:nvSpPr>
          <p:spPr>
            <a:xfrm flipH="1" flipV="1">
              <a:off x="4819680" y="6297480"/>
              <a:ext cx="2114640" cy="60768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Freeform 42"/>
            <p:cNvSpPr/>
            <p:nvPr/>
          </p:nvSpPr>
          <p:spPr>
            <a:xfrm flipH="1" flipV="1">
              <a:off x="6324480" y="6221160"/>
              <a:ext cx="2438640" cy="68544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Freeform 43"/>
            <p:cNvSpPr/>
            <p:nvPr/>
          </p:nvSpPr>
          <p:spPr>
            <a:xfrm flipH="1" flipV="1">
              <a:off x="5486400" y="6221160"/>
              <a:ext cx="3657600" cy="68544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Rectangle 44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03200"/>
            <a:ext cx="7772400" cy="15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00"/>
                </a:solidFill>
                <a:latin typeface="Comic Sans MS"/>
              </a:rPr>
              <a:t>Click to edit the title text format</a:t>
            </a:r>
            <a:endParaRPr b="1" lang="en-US" sz="48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  <a:p>
            <a:pPr lvl="1" marL="594360" indent="-228600"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  <a:p>
            <a:pPr lvl="2" marL="914400" indent="-182880">
              <a:spcBef>
                <a:spcPts val="100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  <a:p>
            <a:pPr lvl="3" marL="1280160" indent="-182880">
              <a:spcBef>
                <a:spcPts val="1001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  <a:p>
            <a:pPr lvl="4" marL="1645920" indent="-182880">
              <a:spcBef>
                <a:spcPts val="1001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  <a:p>
            <a:pPr lvl="5" marL="1645920" indent="-182880">
              <a:spcBef>
                <a:spcPts val="1001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  <a:p>
            <a:pPr lvl="6" marL="1645920" indent="-182880">
              <a:spcBef>
                <a:spcPts val="1001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54B99-83CC-4B68-92F2-CE7809ABE4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50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Freeform 35"/>
            <p:cNvSpPr/>
            <p:nvPr/>
          </p:nvSpPr>
          <p:spPr>
            <a:xfrm>
              <a:off x="2590920" y="-7920"/>
              <a:ext cx="2757240" cy="687852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Freeform 36"/>
            <p:cNvSpPr/>
            <p:nvPr/>
          </p:nvSpPr>
          <p:spPr>
            <a:xfrm>
              <a:off x="0" y="-11160"/>
              <a:ext cx="2757600" cy="68724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37"/>
            <p:cNvSpPr/>
            <p:nvPr/>
          </p:nvSpPr>
          <p:spPr>
            <a:xfrm>
              <a:off x="5943600" y="-6480"/>
              <a:ext cx="2760840" cy="687384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38"/>
            <p:cNvSpPr/>
            <p:nvPr/>
          </p:nvSpPr>
          <p:spPr>
            <a:xfrm>
              <a:off x="3048120" y="-14400"/>
              <a:ext cx="3301920" cy="6864480"/>
            </a:xfrm>
            <a:prstGeom prst="pie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1"/>
            <p:cNvSpPr/>
            <p:nvPr/>
          </p:nvSpPr>
          <p:spPr>
            <a:xfrm>
              <a:off x="185760" y="154080"/>
              <a:ext cx="5562720" cy="243828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2"/>
            <p:cNvSpPr/>
            <p:nvPr/>
          </p:nvSpPr>
          <p:spPr>
            <a:xfrm flipH="1" rot="2703000">
              <a:off x="1285920" y="1215720"/>
              <a:ext cx="4038840" cy="16002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3"/>
            <p:cNvSpPr/>
            <p:nvPr/>
          </p:nvSpPr>
          <p:spPr>
            <a:xfrm>
              <a:off x="131760" y="77760"/>
              <a:ext cx="5562720" cy="243828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4"/>
            <p:cNvSpPr/>
            <p:nvPr/>
          </p:nvSpPr>
          <p:spPr>
            <a:xfrm rot="18703800">
              <a:off x="-1562400" y="1652400"/>
              <a:ext cx="5562720" cy="243828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15"/>
            <p:cNvSpPr/>
            <p:nvPr/>
          </p:nvSpPr>
          <p:spPr>
            <a:xfrm rot="19294800">
              <a:off x="2112840" y="1449000"/>
              <a:ext cx="5705640" cy="275436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Freeform 16"/>
            <p:cNvSpPr/>
            <p:nvPr/>
          </p:nvSpPr>
          <p:spPr>
            <a:xfrm flipH="1" rot="2085000">
              <a:off x="2950920" y="1372680"/>
              <a:ext cx="5562360" cy="243864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Freeform 17"/>
            <p:cNvSpPr/>
            <p:nvPr/>
          </p:nvSpPr>
          <p:spPr>
            <a:xfrm>
              <a:off x="6746760" y="-11160"/>
              <a:ext cx="1729080" cy="362736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Rectangle 18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Freeform 20"/>
            <p:cNvSpPr/>
            <p:nvPr/>
          </p:nvSpPr>
          <p:spPr>
            <a:xfrm>
              <a:off x="2590920" y="3948120"/>
              <a:ext cx="2757240" cy="60624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Freeform 21"/>
            <p:cNvSpPr/>
            <p:nvPr/>
          </p:nvSpPr>
          <p:spPr>
            <a:xfrm>
              <a:off x="0" y="3948120"/>
              <a:ext cx="2757600" cy="604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Freeform 22"/>
            <p:cNvSpPr/>
            <p:nvPr/>
          </p:nvSpPr>
          <p:spPr>
            <a:xfrm>
              <a:off x="5943600" y="3948120"/>
              <a:ext cx="2760840" cy="60624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Freeform 23"/>
            <p:cNvSpPr/>
            <p:nvPr/>
          </p:nvSpPr>
          <p:spPr>
            <a:xfrm>
              <a:off x="3048120" y="3948120"/>
              <a:ext cx="3301920" cy="604800"/>
            </a:xfrm>
            <a:prstGeom prst="pie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Rectangle 27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Freeform 28"/>
            <p:cNvSpPr/>
            <p:nvPr/>
          </p:nvSpPr>
          <p:spPr>
            <a:xfrm>
              <a:off x="4100400" y="3887640"/>
              <a:ext cx="1644840" cy="66672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Freeform 29"/>
            <p:cNvSpPr/>
            <p:nvPr/>
          </p:nvSpPr>
          <p:spPr>
            <a:xfrm flipH="1" rot="18897000">
              <a:off x="2358720" y="3836880"/>
              <a:ext cx="1683000" cy="76176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Freeform 30"/>
            <p:cNvSpPr/>
            <p:nvPr/>
          </p:nvSpPr>
          <p:spPr>
            <a:xfrm flipH="1" rot="18897000">
              <a:off x="1215720" y="3836880"/>
              <a:ext cx="1683000" cy="76176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Freeform 31"/>
            <p:cNvSpPr/>
            <p:nvPr/>
          </p:nvSpPr>
          <p:spPr>
            <a:xfrm flipH="1" rot="18897000">
              <a:off x="47160" y="3786840"/>
              <a:ext cx="1641600" cy="77292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Freeform 32"/>
            <p:cNvSpPr/>
            <p:nvPr/>
          </p:nvSpPr>
          <p:spPr>
            <a:xfrm flipH="1" flipV="1">
              <a:off x="913680" y="3874320"/>
              <a:ext cx="5638680" cy="685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Freeform 33"/>
            <p:cNvSpPr/>
            <p:nvPr/>
          </p:nvSpPr>
          <p:spPr>
            <a:xfrm flipH="1" flipV="1">
              <a:off x="380520" y="3874320"/>
              <a:ext cx="2438640" cy="685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Freeform 34"/>
            <p:cNvSpPr/>
            <p:nvPr/>
          </p:nvSpPr>
          <p:spPr>
            <a:xfrm flipH="1" flipV="1">
              <a:off x="4819680" y="3950640"/>
              <a:ext cx="2114640" cy="60804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Freeform 35"/>
            <p:cNvSpPr/>
            <p:nvPr/>
          </p:nvSpPr>
          <p:spPr>
            <a:xfrm flipH="1" flipV="1">
              <a:off x="6324480" y="3874320"/>
              <a:ext cx="2438640" cy="685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Freeform 36"/>
            <p:cNvSpPr/>
            <p:nvPr/>
          </p:nvSpPr>
          <p:spPr>
            <a:xfrm flipH="1" flipV="1">
              <a:off x="5486400" y="3874320"/>
              <a:ext cx="3657600" cy="685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Rectangle 37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Rectangle 45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Rectangle 46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9" name="Picture 43" descr="BTZBUL1A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403200"/>
            <a:ext cx="7772400" cy="15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00"/>
                </a:solidFill>
                <a:latin typeface="Comic Sans MS"/>
              </a:rPr>
              <a:t>Click to edit the title text format</a:t>
            </a:r>
            <a:endParaRPr b="1" lang="en-US" sz="48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10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  <a:p>
            <a:pPr lvl="1" marL="594360" indent="-228600"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  <a:p>
            <a:pPr lvl="2" marL="914400" indent="-182880">
              <a:spcBef>
                <a:spcPts val="100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  <a:p>
            <a:pPr lvl="3" marL="1280160" indent="-182880">
              <a:spcBef>
                <a:spcPts val="1001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  <a:p>
            <a:pPr lvl="4" marL="1645920" indent="-182880">
              <a:spcBef>
                <a:spcPts val="1001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  <a:p>
            <a:pPr lvl="5" marL="1645920" indent="-182880">
              <a:spcBef>
                <a:spcPts val="1001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  <a:p>
            <a:pPr lvl="6" marL="1645920" indent="-182880">
              <a:spcBef>
                <a:spcPts val="1001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71201-27E4-4D77-8D6A-DE65FEB9867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77880"/>
            <a:ext cx="7772400" cy="100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Comic Sans MS"/>
              </a:rPr>
              <a:t>Static Electricity</a:t>
            </a:r>
            <a:endParaRPr b="1" lang="en-US" sz="60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Charging by conduction and induction</a:t>
            </a:r>
            <a:endParaRPr b="1" lang="en-US" sz="4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11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Electric force, Coulomb’s Law</a:t>
            </a:r>
            <a:endParaRPr b="1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40320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00"/>
                </a:solidFill>
                <a:latin typeface="Comic Sans MS"/>
              </a:rPr>
              <a:t>Practice Problem #1</a:t>
            </a:r>
            <a:endParaRPr b="1" lang="en-US" sz="48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77880"/>
            <a:ext cx="7772400" cy="100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Comic Sans MS"/>
              </a:rPr>
              <a:t>A new force…</a:t>
            </a:r>
            <a:endParaRPr b="1" lang="en-US" sz="60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0948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Electric force</a:t>
            </a:r>
            <a:endParaRPr b="1" lang="en-US" sz="4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11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Between 2 charged objects</a:t>
            </a:r>
            <a:endParaRPr b="1" lang="en-US" sz="4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11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Depends on distance, amt. of charge</a:t>
            </a:r>
            <a:endParaRPr b="1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77880"/>
            <a:ext cx="7772400" cy="100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Comic Sans MS"/>
              </a:rPr>
              <a:t>Coulomb’s Law</a:t>
            </a:r>
            <a:endParaRPr b="1" lang="en-US" sz="60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6" name="Text Box 4"/>
          <p:cNvSpPr/>
          <p:nvPr/>
        </p:nvSpPr>
        <p:spPr>
          <a:xfrm>
            <a:off x="1981080" y="3352680"/>
            <a:ext cx="2971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F =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Text Box 5"/>
          <p:cNvSpPr/>
          <p:nvPr/>
        </p:nvSpPr>
        <p:spPr>
          <a:xfrm>
            <a:off x="4114800" y="2743200"/>
            <a:ext cx="5410080" cy="11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1" lang="en-US" sz="60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1" lang="en-US" sz="6000" spc="-1" strike="noStrike" baseline="-25000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Line 7"/>
          <p:cNvSpPr/>
          <p:nvPr/>
        </p:nvSpPr>
        <p:spPr>
          <a:xfrm>
            <a:off x="4267080" y="3886200"/>
            <a:ext cx="13716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Text Box 8"/>
          <p:cNvSpPr/>
          <p:nvPr/>
        </p:nvSpPr>
        <p:spPr>
          <a:xfrm>
            <a:off x="3352680" y="3276720"/>
            <a:ext cx="1295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K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Text Box 10"/>
          <p:cNvSpPr/>
          <p:nvPr/>
        </p:nvSpPr>
        <p:spPr>
          <a:xfrm>
            <a:off x="4572000" y="3886200"/>
            <a:ext cx="1143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1" lang="en-US" sz="60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Text Box 11"/>
          <p:cNvSpPr/>
          <p:nvPr/>
        </p:nvSpPr>
        <p:spPr>
          <a:xfrm>
            <a:off x="1905120" y="5562720"/>
            <a:ext cx="6248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K = 9 x 10</a:t>
            </a:r>
            <a:r>
              <a:rPr b="1" lang="en-US" sz="4800" spc="-1" strike="noStrike" baseline="30000">
                <a:solidFill>
                  <a:srgbClr val="ffffff"/>
                </a:solidFill>
                <a:latin typeface="Times New Roman"/>
              </a:rPr>
              <a:t>9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N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·m</a:t>
            </a:r>
            <a:r>
              <a:rPr b="1" lang="en-US" sz="4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C</a:t>
            </a:r>
            <a:r>
              <a:rPr b="1" lang="en-US" sz="4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77880"/>
            <a:ext cx="7772400" cy="100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Comic Sans MS"/>
              </a:rPr>
              <a:t>Coulomb’s Law</a:t>
            </a:r>
            <a:endParaRPr b="1" lang="en-US" sz="60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Units  </a:t>
            </a:r>
            <a:endParaRPr b="1" lang="en-US" sz="4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11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Charge - coulomb (C)</a:t>
            </a:r>
            <a:endParaRPr b="1" lang="en-US" sz="4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11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Force – Newtons (N)</a:t>
            </a:r>
            <a:endParaRPr b="1" lang="en-US" sz="4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11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Electric force is a vector</a:t>
            </a:r>
            <a:endParaRPr b="1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77880"/>
            <a:ext cx="7772400" cy="100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Comic Sans MS"/>
              </a:rPr>
              <a:t>Class Practice</a:t>
            </a:r>
            <a:endParaRPr b="1" lang="en-US" sz="60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Coulomb’s Law</a:t>
            </a: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Electric field, version 2</a:t>
            </a: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40320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00"/>
                </a:solidFill>
                <a:latin typeface="Comic Sans MS"/>
              </a:rPr>
              <a:t>Day 2</a:t>
            </a:r>
            <a:endParaRPr b="1" lang="en-US" sz="48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77880"/>
            <a:ext cx="7772400" cy="100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Comic Sans MS"/>
              </a:rPr>
              <a:t>Electrical PE</a:t>
            </a:r>
            <a:endParaRPr b="1" lang="en-US" sz="60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Compare to GPE</a:t>
            </a:r>
            <a:endParaRPr b="1" lang="en-US" sz="4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11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Depends on relative position in field</a:t>
            </a:r>
            <a:endParaRPr b="1" lang="en-US" sz="4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11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Work done to increase PE</a:t>
            </a:r>
            <a:endParaRPr b="1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77880"/>
            <a:ext cx="7772400" cy="100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Comic Sans MS"/>
              </a:rPr>
              <a:t>High or Low?</a:t>
            </a:r>
            <a:endParaRPr b="1" lang="en-US" sz="60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00"/>
                </a:solidFill>
                <a:latin typeface="Comic Sans MS"/>
              </a:rPr>
              <a:t>Electric Potential Difference (voltage)</a:t>
            </a:r>
            <a:endParaRPr b="1" lang="en-US" sz="48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11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Electrical PE per charge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11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Units – volts (1 J/C)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11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Device - voltmeter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77880"/>
            <a:ext cx="7772400" cy="100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Comic Sans MS"/>
              </a:rPr>
              <a:t>Assignment</a:t>
            </a:r>
            <a:endParaRPr b="1" lang="en-US" sz="60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2068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Comic Sans MS"/>
              </a:rPr>
              <a:t>Charging by Conduction</a:t>
            </a:r>
            <a:endParaRPr b="1" lang="en-US" sz="6000" spc="-1" strike="noStrike">
              <a:solidFill>
                <a:srgbClr val="ffcc00"/>
              </a:solidFill>
              <a:latin typeface="Comic Sans MS"/>
            </a:endParaRPr>
          </a:p>
        </p:txBody>
      </p:sp>
      <p:pic>
        <p:nvPicPr>
          <p:cNvPr id="152" name="Picture 7" descr="u8l2c1"/>
          <p:cNvPicPr/>
          <p:nvPr/>
        </p:nvPicPr>
        <p:blipFill>
          <a:blip r:embed="rId1"/>
          <a:stretch/>
        </p:blipFill>
        <p:spPr>
          <a:xfrm>
            <a:off x="1295280" y="2666880"/>
            <a:ext cx="6477120" cy="309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Comic Sans MS"/>
              </a:rPr>
              <a:t>Charging by Induction</a:t>
            </a:r>
            <a:endParaRPr b="1" lang="en-US" sz="6000" spc="-1" strike="noStrike">
              <a:solidFill>
                <a:srgbClr val="ffcc00"/>
              </a:solidFill>
              <a:latin typeface="Comic Sans MS"/>
            </a:endParaRPr>
          </a:p>
        </p:txBody>
      </p:sp>
      <p:pic>
        <p:nvPicPr>
          <p:cNvPr id="155" name="Picture 7" descr="22_04_Charging_by_induction"/>
          <p:cNvPicPr/>
          <p:nvPr/>
        </p:nvPicPr>
        <p:blipFill>
          <a:blip r:embed="rId1"/>
          <a:srcRect l="0" t="0" r="0" b="6857"/>
          <a:stretch/>
        </p:blipFill>
        <p:spPr>
          <a:xfrm>
            <a:off x="533520" y="2743200"/>
            <a:ext cx="8381880" cy="351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Comic Sans MS"/>
              </a:rPr>
              <a:t>Charging by Induction</a:t>
            </a:r>
            <a:endParaRPr b="1" lang="en-US" sz="6000" spc="-1" strike="noStrike">
              <a:solidFill>
                <a:srgbClr val="ffcc00"/>
              </a:solidFill>
              <a:latin typeface="Comic Sans MS"/>
            </a:endParaRPr>
          </a:p>
        </p:txBody>
      </p:sp>
      <p:pic>
        <p:nvPicPr>
          <p:cNvPr id="158" name="Picture 5" descr="balloon_mov"/>
          <p:cNvPicPr/>
          <p:nvPr/>
        </p:nvPicPr>
        <p:blipFill>
          <a:blip r:embed="rId1"/>
          <a:stretch/>
        </p:blipFill>
        <p:spPr>
          <a:xfrm>
            <a:off x="2362320" y="3048120"/>
            <a:ext cx="4190760" cy="25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0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Comic Sans MS"/>
              </a:rPr>
              <a:t>Electric Fields</a:t>
            </a:r>
            <a:endParaRPr b="1" lang="en-US" sz="60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Charged particles produce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11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Other charged particles experience force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723960"/>
            <a:ext cx="7772400" cy="91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c00"/>
                </a:solidFill>
                <a:latin typeface="Comic Sans MS"/>
              </a:rPr>
              <a:t>Field Lines</a:t>
            </a:r>
            <a:endParaRPr b="1" lang="en-US" sz="54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Point direction a + charge would move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More lines = stronger field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77880"/>
            <a:ext cx="7772400" cy="100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Comic Sans MS"/>
              </a:rPr>
              <a:t>Draw the fields…</a:t>
            </a:r>
            <a:endParaRPr b="1" lang="en-US" sz="60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1 positive charge</a:t>
            </a:r>
            <a:endParaRPr b="1" lang="en-US" sz="4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1 negative charge</a:t>
            </a:r>
            <a:endParaRPr b="1" lang="en-US" sz="4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2 positive</a:t>
            </a:r>
            <a:endParaRPr b="1" lang="en-US" sz="4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2 negative</a:t>
            </a:r>
            <a:endParaRPr b="1" lang="en-US" sz="4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1 positive/1 negative</a:t>
            </a:r>
            <a:endParaRPr b="1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40320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Comic Sans MS"/>
            </a:endParaRPr>
          </a:p>
        </p:txBody>
      </p:sp>
      <p:pic>
        <p:nvPicPr>
          <p:cNvPr id="166" name="Picture 2" descr="http://www.splung.com/fields/images/efield/dipole2.png"/>
          <p:cNvPicPr/>
          <p:nvPr/>
        </p:nvPicPr>
        <p:blipFill>
          <a:blip r:embed="rId1"/>
          <a:stretch/>
        </p:blipFill>
        <p:spPr>
          <a:xfrm>
            <a:off x="550800" y="2971800"/>
            <a:ext cx="3503520" cy="213984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4" descr="http://www.splung.com/fields/images/efield/dipole.png"/>
          <p:cNvPicPr/>
          <p:nvPr/>
        </p:nvPicPr>
        <p:blipFill>
          <a:blip r:embed="rId2"/>
          <a:stretch/>
        </p:blipFill>
        <p:spPr>
          <a:xfrm>
            <a:off x="4800600" y="2971800"/>
            <a:ext cx="3635280" cy="20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27000"/>
            <a:ext cx="7772400" cy="230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00"/>
                </a:solidFill>
                <a:latin typeface="Comic Sans MS"/>
              </a:rPr>
              <a:t>To calculate field strength:</a:t>
            </a:r>
            <a:br>
              <a:rPr sz="4800"/>
            </a:br>
            <a:endParaRPr b="1" lang="en-US" sz="48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E = F </a:t>
            </a:r>
            <a:r>
              <a:rPr b="1" lang="en-US" sz="4000" spc="-1" strike="noStrike" baseline="-25000">
                <a:solidFill>
                  <a:srgbClr val="ffffff"/>
                </a:solidFill>
                <a:latin typeface="Comic Sans MS"/>
              </a:rPr>
              <a:t>on q</a:t>
            </a: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/q</a:t>
            </a: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5T14:51:44Z</dcterms:created>
  <dc:creator>bisd</dc:creator>
  <dc:description/>
  <dc:language>en-US</dc:language>
  <cp:lastModifiedBy>jluckey</cp:lastModifiedBy>
  <dcterms:modified xsi:type="dcterms:W3CDTF">2011-04-24T21:13:21Z</dcterms:modified>
  <cp:revision>99</cp:revision>
  <dc:subject/>
  <dc:title>IPC Bell-Ringer</dc:title>
</cp:coreProperties>
</file>